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E08E1-8F8F-40E9-8D26-1FB45C5A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3C779-0E5C-478C-8D72-7CA1203E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095A8-7848-48D9-95DE-372A65C7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0B915-AA48-4279-ADB6-32D7F88B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87E9B-8391-45BD-897A-AAFC4DA4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AF302-1BC6-4985-95F6-01FF33A4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A0A9A-45C7-4BD6-BA45-F14577BB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A63CB-F13E-4209-9284-B80B8845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5D65E-8D4A-4234-AB46-E3D16124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A80CB-E5D0-4AEE-9AE1-5EF66E7B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9D342-8837-4744-934D-9C703A0A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901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1776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762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901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1776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C8B55-F0F2-402A-9E3B-0B7A907B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6212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8963"/>
                </a:solidFill>
                <a:latin typeface="Times New Roman"/>
              </a:rPr>
              <a:t>Seat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01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 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GA Tech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6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7978-8A27-4A27-8B46-A240215AEFF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0" y="1334880"/>
            <a:ext cx="4419720" cy="28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ahoma"/>
              </a:rPr>
              <a:t>Data Management Conformance (DMC)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huck Eastma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GA Te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1295280"/>
            <a:ext cx="693396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9" name="datamanagement3" descr=""/>
          <p:cNvPicPr/>
          <p:nvPr/>
        </p:nvPicPr>
        <p:blipFill>
          <a:blip r:embed="rId2"/>
          <a:stretch/>
        </p:blipFill>
        <p:spPr>
          <a:xfrm>
            <a:off x="1143000" y="1479600"/>
            <a:ext cx="6324480" cy="3089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533520" y="-1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Each managed_data_item references one entity insta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0277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very entity instance in a model has a item-refernece added, doubling size of f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1295280"/>
            <a:ext cx="5638680" cy="403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95280" y="494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d Transa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43000" y="563796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Data_import, data_export_modification, data_export_cre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86600" y="137052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Transaction history of actions per data item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338184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Who, what, when, wher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47" name="datamanagement2" descr=""/>
          <p:cNvPicPr/>
          <p:nvPr/>
        </p:nvPicPr>
        <p:blipFill>
          <a:blip r:embed="rId2"/>
          <a:stretch/>
        </p:blipFill>
        <p:spPr>
          <a:xfrm>
            <a:off x="1600200" y="1365120"/>
            <a:ext cx="5467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7748640" cy="10681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2732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s Have Internal Sets of the Type of Action Tak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10080" y="27421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x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3880" y="28184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Import Grou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09680" y="1981080"/>
            <a:ext cx="41148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456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Data-Item Has a Transaction Histo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9320" y="464832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Each managed_data_item references every transaction it has ever participated in, during its DMC lif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5" name="datamanagement1-5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38862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523880" y="1828800"/>
            <a:ext cx="66294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3049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ransaction Provides a Record of Who, What, When and Whe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58" name="datamanagement1-3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261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533520" y="4572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DMC Manager Applic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62120" y="2057400"/>
            <a:ext cx="1904760" cy="1219320"/>
            <a:chOff x="762120" y="2057400"/>
            <a:chExt cx="1904760" cy="1219320"/>
          </a:xfrm>
        </p:grpSpPr>
        <p:sp>
          <p:nvSpPr>
            <p:cNvPr id="361" name=""/>
            <p:cNvSpPr/>
            <p:nvPr/>
          </p:nvSpPr>
          <p:spPr>
            <a:xfrm>
              <a:off x="762120" y="2057400"/>
              <a:ext cx="190476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42640" y="2210040"/>
              <a:ext cx="1142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asic</a:t>
              </a: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Part-21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ile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0" y="2209680"/>
            <a:ext cx="3048120" cy="1218960"/>
            <a:chOff x="2286000" y="2209680"/>
            <a:chExt cx="3048120" cy="1218960"/>
          </a:xfrm>
        </p:grpSpPr>
        <p:sp>
          <p:nvSpPr>
            <p:cNvPr id="364" name=""/>
            <p:cNvSpPr/>
            <p:nvPr/>
          </p:nvSpPr>
          <p:spPr>
            <a:xfrm>
              <a:off x="2819520" y="2285640"/>
              <a:ext cx="2514600" cy="1008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MC 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Manager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209680"/>
              <a:ext cx="1067040" cy="1218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029200" y="2209680"/>
            <a:ext cx="2590920" cy="1295280"/>
            <a:chOff x="5029200" y="2209680"/>
            <a:chExt cx="2590920" cy="1295280"/>
          </a:xfrm>
        </p:grpSpPr>
        <p:grpSp>
          <p:nvGrpSpPr>
            <p:cNvPr id="367" name=""/>
            <p:cNvGrpSpPr/>
            <p:nvPr/>
          </p:nvGrpSpPr>
          <p:grpSpPr>
            <a:xfrm>
              <a:off x="5715000" y="2209680"/>
              <a:ext cx="1905120" cy="1218960"/>
              <a:chOff x="5715000" y="2209680"/>
              <a:chExt cx="1905120" cy="1218960"/>
            </a:xfrm>
          </p:grpSpPr>
          <p:sp>
            <p:nvSpPr>
              <p:cNvPr id="368" name=""/>
              <p:cNvSpPr/>
              <p:nvPr/>
            </p:nvSpPr>
            <p:spPr>
              <a:xfrm>
                <a:off x="5715000" y="2209680"/>
                <a:ext cx="1905120" cy="121896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095880" y="236196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33"/>
                    </a:solidFill>
                    <a:latin typeface="Times New Roman"/>
                  </a:rPr>
                  <a:t>DMC 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Part-21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029200" y="2285640"/>
              <a:ext cx="1067040" cy="1219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9144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800600" y="914400"/>
            <a:ext cx="228600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228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Collaborative Development of a DMC Application Interfa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800600" y="914400"/>
          <a:ext cx="294012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914400"/>
                    <a:ext cx="2940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533520" y="2895480"/>
            <a:ext cx="3886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hared functionality across applications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re-link all input data with outpu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manage modification, creation, dele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pdate transaction lo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447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e minimal requirement of an application: track object ID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76520" y="1752480"/>
            <a:ext cx="5562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unique ID to each Entity instance, allowing merg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dentifies who, when, where for all creations, modifications and dele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ovides a transaction and version history for auditing of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08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does DMC Consist of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838080" y="1676520"/>
            <a:ext cx="3810240" cy="2133360"/>
            <a:chOff x="838080" y="1676520"/>
            <a:chExt cx="3810240" cy="2133360"/>
          </a:xfrm>
        </p:grpSpPr>
        <p:sp>
          <p:nvSpPr>
            <p:cNvPr id="146" name=""/>
            <p:cNvSpPr/>
            <p:nvPr/>
          </p:nvSpPr>
          <p:spPr>
            <a:xfrm>
              <a:off x="2819520" y="1676520"/>
              <a:ext cx="1828800" cy="2133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838080" y="2133720"/>
              <a:ext cx="1571400" cy="1143000"/>
              <a:chOff x="838080" y="2133720"/>
              <a:chExt cx="1571400" cy="1143000"/>
            </a:xfrm>
          </p:grpSpPr>
          <p:sp>
            <p:nvSpPr>
              <p:cNvPr id="148" name=""/>
              <p:cNvSpPr/>
              <p:nvPr/>
            </p:nvSpPr>
            <p:spPr>
              <a:xfrm>
                <a:off x="838080" y="2133720"/>
                <a:ext cx="1571400" cy="1143000"/>
              </a:xfrm>
              <a:custGeom>
                <a:avLst/>
                <a:gdLst/>
                <a:ahLst/>
                <a:rect l="l" t="t" r="r" b="b"/>
                <a:pathLst>
                  <a:path w="990" h="983">
                    <a:moveTo>
                      <a:pt x="31" y="1"/>
                    </a:moveTo>
                    <a:lnTo>
                      <a:pt x="748" y="0"/>
                    </a:lnTo>
                    <a:cubicBezTo>
                      <a:pt x="816" y="68"/>
                      <a:pt x="838" y="34"/>
                      <a:pt x="850" y="134"/>
                    </a:cubicBezTo>
                    <a:cubicBezTo>
                      <a:pt x="866" y="242"/>
                      <a:pt x="834" y="422"/>
                      <a:pt x="842" y="648"/>
                    </a:cubicBezTo>
                    <a:cubicBezTo>
                      <a:pt x="842" y="812"/>
                      <a:pt x="787" y="882"/>
                      <a:pt x="990" y="975"/>
                    </a:cubicBezTo>
                    <a:cubicBezTo>
                      <a:pt x="826" y="983"/>
                      <a:pt x="483" y="968"/>
                      <a:pt x="141" y="960"/>
                    </a:cubicBezTo>
                    <a:cubicBezTo>
                      <a:pt x="0" y="890"/>
                      <a:pt x="91" y="721"/>
                      <a:pt x="78" y="671"/>
                    </a:cubicBezTo>
                    <a:cubicBezTo>
                      <a:pt x="93" y="421"/>
                      <a:pt x="86" y="367"/>
                      <a:pt x="102" y="188"/>
                    </a:cubicBezTo>
                    <a:cubicBezTo>
                      <a:pt x="111" y="104"/>
                      <a:pt x="152" y="66"/>
                      <a:pt x="55" y="32"/>
                    </a:cubicBezTo>
                    <a:cubicBezTo>
                      <a:pt x="52" y="24"/>
                      <a:pt x="47" y="9"/>
                      <a:pt x="47" y="9"/>
                    </a:cubicBez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110960" y="2362320"/>
                <a:ext cx="1066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Part21 fil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895480" y="16765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CIS/2 in-memory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33"/>
                  </a:solidFill>
                  <a:latin typeface="Times New Roman"/>
                </a:rPr>
                <a:t>full file data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2362320"/>
              <a:ext cx="457200" cy="533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895480" y="1143000"/>
            <a:ext cx="4191120" cy="3507840"/>
            <a:chOff x="2895480" y="1143000"/>
            <a:chExt cx="4191120" cy="3507840"/>
          </a:xfrm>
        </p:grpSpPr>
        <p:sp>
          <p:nvSpPr>
            <p:cNvPr id="153" name=""/>
            <p:cNvSpPr/>
            <p:nvPr/>
          </p:nvSpPr>
          <p:spPr>
            <a:xfrm flipH="1" rot="7771200">
              <a:off x="4075920" y="1637640"/>
              <a:ext cx="1219320" cy="9903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143000"/>
              <a:ext cx="243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ata not read by application is lo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95480" y="2209680"/>
              <a:ext cx="3429000" cy="2441160"/>
              <a:chOff x="2895480" y="2209680"/>
              <a:chExt cx="3429000" cy="2441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95480" y="2209680"/>
                <a:ext cx="1676520" cy="609840"/>
              </a:xfrm>
              <a:prstGeom prst="rect">
                <a:avLst/>
              </a:prstGeom>
              <a:noFill/>
              <a:ln w="2844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2286000"/>
                <a:ext cx="990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 not Rea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24280" y="3048120"/>
                <a:ext cx="457200" cy="5331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57800" y="2362320"/>
                <a:ext cx="1066680" cy="228852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Nativ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33"/>
                    </a:solidFill>
                    <a:latin typeface="Times New Roman"/>
                  </a:rPr>
                  <a:t>structure</a:t>
                </a: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2895480" y="2895480"/>
                <a:ext cx="1752480" cy="838080"/>
                <a:chOff x="2895480" y="2895480"/>
                <a:chExt cx="1752480" cy="8380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95480" y="3047760"/>
                  <a:ext cx="1752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33"/>
                      </a:solidFill>
                      <a:latin typeface="Times New Roman"/>
                    </a:rPr>
                    <a:t>Extracted data</a:t>
                  </a:r>
                  <a:endParaRPr b="0" lang="en-US" sz="2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480" y="2895480"/>
                  <a:ext cx="1676160" cy="838080"/>
                </a:xfrm>
                <a:prstGeom prst="rect">
                  <a:avLst/>
                </a:prstGeom>
                <a:noFill/>
                <a:ln w="1908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" name=""/>
          <p:cNvGrpSpPr/>
          <p:nvPr/>
        </p:nvGrpSpPr>
        <p:grpSpPr>
          <a:xfrm>
            <a:off x="685800" y="2438280"/>
            <a:ext cx="7696080" cy="3353040"/>
            <a:chOff x="685800" y="2438280"/>
            <a:chExt cx="7696080" cy="3353040"/>
          </a:xfrm>
        </p:grpSpPr>
        <p:grpSp>
          <p:nvGrpSpPr>
            <p:cNvPr id="164" name=""/>
            <p:cNvGrpSpPr/>
            <p:nvPr/>
          </p:nvGrpSpPr>
          <p:grpSpPr>
            <a:xfrm>
              <a:off x="6705720" y="2438280"/>
              <a:ext cx="1676160" cy="2210040"/>
              <a:chOff x="6705720" y="2438280"/>
              <a:chExt cx="1676160" cy="2210040"/>
            </a:xfrm>
          </p:grpSpPr>
          <p:sp>
            <p:nvSpPr>
              <p:cNvPr id="165" name=""/>
              <p:cNvSpPr/>
              <p:nvPr/>
            </p:nvSpPr>
            <p:spPr>
              <a:xfrm>
                <a:off x="6858000" y="2438280"/>
                <a:ext cx="1447920" cy="221004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705720" y="3124080"/>
                <a:ext cx="16761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85800" y="4267080"/>
              <a:ext cx="1905120" cy="1143000"/>
              <a:chOff x="685800" y="4267080"/>
              <a:chExt cx="1905120" cy="114300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133720" y="4495680"/>
                <a:ext cx="457200" cy="53352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85800" y="4267080"/>
                <a:ext cx="1571400" cy="1143000"/>
                <a:chOff x="685800" y="4267080"/>
                <a:chExt cx="1571400" cy="11430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85800" y="4267080"/>
                  <a:ext cx="1571400" cy="11430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958680" y="4495680"/>
                  <a:ext cx="1066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2743200" y="4038480"/>
              <a:ext cx="1905120" cy="1752840"/>
              <a:chOff x="2743200" y="4038480"/>
              <a:chExt cx="1905120" cy="1752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038480"/>
                <a:ext cx="1905120" cy="1752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19520" y="4038480"/>
                <a:ext cx="1752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95480" y="4724280"/>
                <a:ext cx="15242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a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5480" y="4724280"/>
                <a:ext cx="1676520" cy="99072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H="1">
              <a:off x="4648320" y="3809880"/>
              <a:ext cx="45720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2666880"/>
              <a:ext cx="838080" cy="16765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257800" y="3809880"/>
              <a:ext cx="1066680" cy="838440"/>
              <a:chOff x="5257800" y="3809880"/>
              <a:chExt cx="1066680" cy="838440"/>
            </a:xfrm>
          </p:grpSpPr>
          <p:sp>
            <p:nvSpPr>
              <p:cNvPr id="180" name=""/>
              <p:cNvSpPr/>
              <p:nvPr/>
            </p:nvSpPr>
            <p:spPr>
              <a:xfrm>
                <a:off x="5334120" y="3886200"/>
                <a:ext cx="914400" cy="76212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57800" y="3809880"/>
                <a:ext cx="10666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Application Generated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48320" y="10666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Physical members, connections, non-structural data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981080" y="1469880"/>
            <a:ext cx="4648320" cy="2022480"/>
            <a:chOff x="1981080" y="1469880"/>
            <a:chExt cx="4648320" cy="2022480"/>
          </a:xfrm>
        </p:grpSpPr>
        <p:grpSp>
          <p:nvGrpSpPr>
            <p:cNvPr id="185" name=""/>
            <p:cNvGrpSpPr/>
            <p:nvPr/>
          </p:nvGrpSpPr>
          <p:grpSpPr>
            <a:xfrm>
              <a:off x="2057400" y="1676520"/>
              <a:ext cx="2300400" cy="914400"/>
              <a:chOff x="2057400" y="1676520"/>
              <a:chExt cx="2300400" cy="914400"/>
            </a:xfrm>
          </p:grpSpPr>
          <p:sp>
            <p:nvSpPr>
              <p:cNvPr id="186" name=""/>
              <p:cNvSpPr/>
              <p:nvPr/>
            </p:nvSpPr>
            <p:spPr>
              <a:xfrm>
                <a:off x="3253680" y="1676520"/>
                <a:ext cx="1104120" cy="9144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2057400" y="1872360"/>
                <a:ext cx="948960" cy="494280"/>
                <a:chOff x="2057400" y="1872360"/>
                <a:chExt cx="948960" cy="494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057400" y="1872360"/>
                  <a:ext cx="948960" cy="48996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221920" y="19681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3298680" y="167652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931480" y="197028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 flipH="1" rot="7771200">
              <a:off x="4136040" y="156240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6320" y="1893960"/>
              <a:ext cx="1011240" cy="26172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5320" y="182880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25252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5840" y="195912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316320" y="2187720"/>
              <a:ext cx="1057320" cy="360360"/>
              <a:chOff x="3316320" y="2187720"/>
              <a:chExt cx="1057320" cy="360360"/>
            </a:xfrm>
          </p:grpSpPr>
          <p:sp>
            <p:nvSpPr>
              <p:cNvPr id="198" name=""/>
              <p:cNvSpPr/>
              <p:nvPr/>
            </p:nvSpPr>
            <p:spPr>
              <a:xfrm>
                <a:off x="3316320" y="225252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316320" y="2187720"/>
                <a:ext cx="1011960" cy="36036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618160" y="1992240"/>
              <a:ext cx="1011240" cy="947880"/>
              <a:chOff x="5618160" y="1992240"/>
              <a:chExt cx="1011240" cy="947880"/>
            </a:xfrm>
          </p:grpSpPr>
          <p:sp>
            <p:nvSpPr>
              <p:cNvPr id="201" name=""/>
              <p:cNvSpPr/>
              <p:nvPr/>
            </p:nvSpPr>
            <p:spPr>
              <a:xfrm>
                <a:off x="5709240" y="1992240"/>
                <a:ext cx="874080" cy="94788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18160" y="22863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981080" y="2776680"/>
              <a:ext cx="1150560" cy="496800"/>
              <a:chOff x="1981080" y="2776680"/>
              <a:chExt cx="1150560" cy="49680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2855160" y="2874240"/>
                <a:ext cx="276120" cy="228240"/>
              </a:xfrm>
              <a:prstGeom prst="rightArrow">
                <a:avLst>
                  <a:gd name="adj1" fmla="val 50000"/>
                  <a:gd name="adj2" fmla="val 30244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981080" y="2776680"/>
                <a:ext cx="949320" cy="496800"/>
                <a:chOff x="1981080" y="2776680"/>
                <a:chExt cx="949320" cy="4968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1981080" y="2776680"/>
                  <a:ext cx="949320" cy="48888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145600" y="287496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224160" y="2678040"/>
              <a:ext cx="1149480" cy="814320"/>
              <a:chOff x="3224160" y="2678040"/>
              <a:chExt cx="1149480" cy="814320"/>
            </a:xfrm>
          </p:grpSpPr>
          <p:sp>
            <p:nvSpPr>
              <p:cNvPr id="209" name=""/>
              <p:cNvSpPr/>
              <p:nvPr/>
            </p:nvSpPr>
            <p:spPr>
              <a:xfrm>
                <a:off x="3224160" y="2678040"/>
                <a:ext cx="1149480" cy="751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1680" y="267804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315960" y="297180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315960" y="2971800"/>
                <a:ext cx="1011600" cy="4248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flipH="1">
              <a:off x="4372920" y="2579760"/>
              <a:ext cx="276120" cy="228600"/>
            </a:xfrm>
            <a:prstGeom prst="rightArrow">
              <a:avLst>
                <a:gd name="adj1" fmla="val 50000"/>
                <a:gd name="adj2" fmla="val 30197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40240" y="2090880"/>
              <a:ext cx="506520" cy="71748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80880" y="12193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1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2057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5909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38098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33"/>
                </a:solidFill>
                <a:uFillTx/>
                <a:latin typeface="Times New Roman"/>
              </a:rPr>
              <a:t>Dropped Data</a:t>
            </a: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: loads, reactions, elements &amp; node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981080" y="4060800"/>
            <a:ext cx="4648320" cy="2022120"/>
            <a:chOff x="1981080" y="4060800"/>
            <a:chExt cx="4648320" cy="2022120"/>
          </a:xfrm>
        </p:grpSpPr>
        <p:grpSp>
          <p:nvGrpSpPr>
            <p:cNvPr id="221" name=""/>
            <p:cNvGrpSpPr/>
            <p:nvPr/>
          </p:nvGrpSpPr>
          <p:grpSpPr>
            <a:xfrm>
              <a:off x="2057400" y="4267080"/>
              <a:ext cx="2300400" cy="914040"/>
              <a:chOff x="2057400" y="4267080"/>
              <a:chExt cx="2300400" cy="914040"/>
            </a:xfrm>
          </p:grpSpPr>
          <p:sp>
            <p:nvSpPr>
              <p:cNvPr id="222" name=""/>
              <p:cNvSpPr/>
              <p:nvPr/>
            </p:nvSpPr>
            <p:spPr>
              <a:xfrm>
                <a:off x="3253680" y="4267080"/>
                <a:ext cx="1104120" cy="91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057400" y="4462920"/>
                <a:ext cx="948960" cy="494280"/>
                <a:chOff x="2057400" y="4462920"/>
                <a:chExt cx="948960" cy="4942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057400" y="4462920"/>
                  <a:ext cx="948960" cy="48960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221920" y="455868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298680" y="4267080"/>
                <a:ext cx="105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31480" y="4560840"/>
                <a:ext cx="275760" cy="228240"/>
              </a:xfrm>
              <a:prstGeom prst="rightArrow">
                <a:avLst>
                  <a:gd name="adj1" fmla="val 50000"/>
                  <a:gd name="adj2" fmla="val 30205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 rot="7771200">
              <a:off x="4136040" y="4153320"/>
              <a:ext cx="522360" cy="59688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781" y="15281"/>
                  </a:moveTo>
                  <a:arcTo wR="-4915" hR="-4915" stAng="6855004" swAng="-4538423"/>
                  <a:lnTo>
                    <a:pt x="2361" y="4061"/>
                  </a:lnTo>
                  <a:arcTo wR="10800" hR="10800" stAng="-8483419" swAng="4538423"/>
                  <a:lnTo>
                    <a:pt x="16345" y="-1509"/>
                  </a:lnTo>
                  <a:lnTo>
                    <a:pt x="19172" y="5953"/>
                  </a:lnTo>
                  <a:lnTo>
                    <a:pt x="11710" y="878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16320" y="4484520"/>
              <a:ext cx="1011240" cy="261360"/>
            </a:xfrm>
            <a:prstGeom prst="rect">
              <a:avLst/>
            </a:prstGeom>
            <a:noFill/>
            <a:ln w="2844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4419360"/>
              <a:ext cx="761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</a:rPr>
                <a:t>Data not Re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9720" y="484308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95840" y="4549680"/>
              <a:ext cx="646200" cy="1312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Nativ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tructur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316320" y="4778280"/>
              <a:ext cx="1057320" cy="360000"/>
              <a:chOff x="3316320" y="4778280"/>
              <a:chExt cx="1057320" cy="360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6320" y="4843080"/>
                <a:ext cx="1057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xtracted dat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316320" y="4778280"/>
                <a:ext cx="1011960" cy="36000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618160" y="4582800"/>
              <a:ext cx="1011240" cy="947520"/>
              <a:chOff x="5618160" y="4582800"/>
              <a:chExt cx="1011240" cy="947520"/>
            </a:xfrm>
          </p:grpSpPr>
          <p:sp>
            <p:nvSpPr>
              <p:cNvPr id="237" name=""/>
              <p:cNvSpPr/>
              <p:nvPr/>
            </p:nvSpPr>
            <p:spPr>
              <a:xfrm>
                <a:off x="5709240" y="4582800"/>
                <a:ext cx="874080" cy="947520"/>
              </a:xfrm>
              <a:prstGeom prst="ellipse">
                <a:avLst/>
              </a:prstGeom>
              <a:solidFill>
                <a:srgbClr val="a9bda9"/>
              </a:solidFill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18160" y="4876560"/>
                <a:ext cx="10112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pplication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981080" y="5367240"/>
              <a:ext cx="1150560" cy="496800"/>
              <a:chOff x="1981080" y="5367240"/>
              <a:chExt cx="1150560" cy="49680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2855160" y="5464800"/>
                <a:ext cx="276120" cy="227880"/>
              </a:xfrm>
              <a:prstGeom prst="rightArrow">
                <a:avLst>
                  <a:gd name="adj1" fmla="val 50000"/>
                  <a:gd name="adj2" fmla="val 30292"/>
                </a:avLst>
              </a:prstGeom>
              <a:solidFill>
                <a:srgbClr val="578963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81080" y="5367240"/>
                <a:ext cx="949320" cy="496800"/>
                <a:chOff x="1981080" y="5367240"/>
                <a:chExt cx="949320" cy="4968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81080" y="5367240"/>
                  <a:ext cx="949320" cy="488520"/>
                </a:xfrm>
                <a:custGeom>
                  <a:avLst/>
                  <a:gdLst/>
                  <a:ahLst/>
                  <a:rect l="l" t="t" r="r" b="b"/>
                  <a:pathLst>
                    <a:path w="990" h="983">
                      <a:moveTo>
                        <a:pt x="31" y="1"/>
                      </a:moveTo>
                      <a:lnTo>
                        <a:pt x="748" y="0"/>
                      </a:lnTo>
                      <a:cubicBezTo>
                        <a:pt x="816" y="68"/>
                        <a:pt x="838" y="34"/>
                        <a:pt x="850" y="134"/>
                      </a:cubicBezTo>
                      <a:cubicBezTo>
                        <a:pt x="866" y="242"/>
                        <a:pt x="834" y="422"/>
                        <a:pt x="842" y="648"/>
                      </a:cubicBezTo>
                      <a:cubicBezTo>
                        <a:pt x="842" y="812"/>
                        <a:pt x="787" y="882"/>
                        <a:pt x="990" y="975"/>
                      </a:cubicBezTo>
                      <a:cubicBezTo>
                        <a:pt x="826" y="983"/>
                        <a:pt x="483" y="968"/>
                        <a:pt x="141" y="960"/>
                      </a:cubicBezTo>
                      <a:cubicBezTo>
                        <a:pt x="0" y="890"/>
                        <a:pt x="91" y="721"/>
                        <a:pt x="78" y="671"/>
                      </a:cubicBezTo>
                      <a:cubicBezTo>
                        <a:pt x="93" y="421"/>
                        <a:pt x="86" y="367"/>
                        <a:pt x="102" y="188"/>
                      </a:cubicBezTo>
                      <a:cubicBezTo>
                        <a:pt x="111" y="104"/>
                        <a:pt x="152" y="66"/>
                        <a:pt x="55" y="32"/>
                      </a:cubicBezTo>
                      <a:cubicBezTo>
                        <a:pt x="52" y="24"/>
                        <a:pt x="47" y="9"/>
                        <a:pt x="47" y="9"/>
                      </a:cubicBezTo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145600" y="5465520"/>
                  <a:ext cx="6433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333333"/>
                      </a:solidFill>
                      <a:latin typeface="Times New Roman"/>
                    </a:rPr>
                    <a:t>Part21 file</a:t>
                  </a:r>
                  <a:endParaRPr b="0" lang="en-US" sz="10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3224160" y="5268600"/>
              <a:ext cx="1149480" cy="814320"/>
              <a:chOff x="3224160" y="5268600"/>
              <a:chExt cx="1149480" cy="814320"/>
            </a:xfrm>
          </p:grpSpPr>
          <p:sp>
            <p:nvSpPr>
              <p:cNvPr id="245" name=""/>
              <p:cNvSpPr/>
              <p:nvPr/>
            </p:nvSpPr>
            <p:spPr>
              <a:xfrm>
                <a:off x="3224160" y="5268600"/>
                <a:ext cx="1149480" cy="751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271680" y="5268600"/>
                <a:ext cx="105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CIS/2 in-memory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333333"/>
                    </a:solidFill>
                    <a:latin typeface="Times New Roman"/>
                  </a:rPr>
                  <a:t>full file dataset</a:t>
                </a:r>
                <a:endParaRPr b="0" lang="en-US" sz="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15960" y="5562360"/>
                <a:ext cx="919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333333"/>
                    </a:solidFill>
                    <a:latin typeface="Times New Roman"/>
                  </a:rPr>
                  <a:t>Extracted, added and new dat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5960" y="5562360"/>
                <a:ext cx="1011600" cy="424440"/>
              </a:xfrm>
              <a:prstGeom prst="rect">
                <a:avLst/>
              </a:prstGeom>
              <a:noFill/>
              <a:ln w="190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4372920" y="5170320"/>
              <a:ext cx="276120" cy="228240"/>
            </a:xfrm>
            <a:prstGeom prst="rightArrow">
              <a:avLst>
                <a:gd name="adj1" fmla="val 50000"/>
                <a:gd name="adj2" fmla="val 30244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0240" y="4681440"/>
              <a:ext cx="506520" cy="71712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088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Example 2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Da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46483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Design Appl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51814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Analysis Result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Limitations of Basic File Transfer (w/o DMC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2952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Only Very Limited Workflows are Possib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57200" y="2209680"/>
            <a:ext cx="8077320" cy="703800"/>
            <a:chOff x="457200" y="2209680"/>
            <a:chExt cx="8077320" cy="703800"/>
          </a:xfrm>
        </p:grpSpPr>
        <p:sp>
          <p:nvSpPr>
            <p:cNvPr id="258" name=""/>
            <p:cNvSpPr/>
            <p:nvPr/>
          </p:nvSpPr>
          <p:spPr>
            <a:xfrm>
              <a:off x="45720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220968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720" y="220968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3372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14800" y="228600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24480" y="22860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295280" y="3429000"/>
            <a:ext cx="1654200" cy="1694520"/>
            <a:chOff x="1295280" y="3429000"/>
            <a:chExt cx="1654200" cy="1694520"/>
          </a:xfrm>
        </p:grpSpPr>
        <p:sp>
          <p:nvSpPr>
            <p:cNvPr id="266" name=""/>
            <p:cNvSpPr/>
            <p:nvPr/>
          </p:nvSpPr>
          <p:spPr>
            <a:xfrm>
              <a:off x="1295280" y="342900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nalysis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5280" y="4419720"/>
              <a:ext cx="16542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Desig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134600">
              <a:off x="1676160" y="403812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5465400">
              <a:off x="2285640" y="40384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590920" y="3733920"/>
            <a:ext cx="2590560" cy="1389600"/>
            <a:chOff x="2590920" y="3733920"/>
            <a:chExt cx="2590560" cy="1389600"/>
          </a:xfrm>
        </p:grpSpPr>
        <p:sp>
          <p:nvSpPr>
            <p:cNvPr id="271" name=""/>
            <p:cNvSpPr/>
            <p:nvPr/>
          </p:nvSpPr>
          <p:spPr>
            <a:xfrm>
              <a:off x="335268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Shop drawing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1800" y="4495680"/>
              <a:ext cx="38088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90920" y="3733920"/>
              <a:ext cx="1066680" cy="83808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5503751"/>
                  <a:lnTo>
                    <a:pt x="10474" y="5"/>
                  </a:lnTo>
                  <a:arcTo wR="10800" hR="10800" stAng="-5503751" swAng="550375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181120" y="4343400"/>
            <a:ext cx="2210400" cy="990720"/>
            <a:chOff x="5181120" y="4343400"/>
            <a:chExt cx="2210400" cy="990720"/>
          </a:xfrm>
        </p:grpSpPr>
        <p:sp>
          <p:nvSpPr>
            <p:cNvPr id="275" name=""/>
            <p:cNvSpPr/>
            <p:nvPr/>
          </p:nvSpPr>
          <p:spPr>
            <a:xfrm>
              <a:off x="5562720" y="4419720"/>
              <a:ext cx="1828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Fabr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33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1480" y="48006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180760" y="4343400"/>
              <a:ext cx="381240" cy="533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57896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133720" y="4495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NOT SUPPORTED!!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53341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veat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200400" y="3429000"/>
            <a:ext cx="3886200" cy="2514600"/>
            <a:chOff x="3200400" y="3429000"/>
            <a:chExt cx="3886200" cy="2514600"/>
          </a:xfrm>
        </p:grpSpPr>
        <p:sp>
          <p:nvSpPr>
            <p:cNvPr id="281" name=""/>
            <p:cNvSpPr/>
            <p:nvPr/>
          </p:nvSpPr>
          <p:spPr>
            <a:xfrm>
              <a:off x="3200400" y="3429000"/>
              <a:ext cx="3886200" cy="2514600"/>
            </a:xfrm>
            <a:custGeom>
              <a:avLst/>
              <a:gdLst/>
              <a:ahLst/>
              <a:rect l="l" t="t" r="r" b="b"/>
              <a:pathLst>
                <a:path w="2448" h="1584">
                  <a:moveTo>
                    <a:pt x="48" y="0"/>
                  </a:moveTo>
                  <a:lnTo>
                    <a:pt x="1296" y="0"/>
                  </a:lnTo>
                  <a:lnTo>
                    <a:pt x="2448" y="768"/>
                  </a:lnTo>
                  <a:lnTo>
                    <a:pt x="2448" y="1584"/>
                  </a:lnTo>
                  <a:lnTo>
                    <a:pt x="1104" y="1584"/>
                  </a:lnTo>
                  <a:lnTo>
                    <a:pt x="816" y="864"/>
                  </a:lnTo>
                  <a:lnTo>
                    <a:pt x="0" y="86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d5efd5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76920" y="3962520"/>
              <a:ext cx="1143000" cy="459720"/>
            </a:xfrm>
            <a:prstGeom prst="rect">
              <a:avLst/>
            </a:prstGeom>
            <a:solidFill>
              <a:srgbClr val="d5e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ahoma"/>
                </a:rPr>
                <a:t>merg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1447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Merging of multiple files into a single on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05120" y="49528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134600">
            <a:off x="2285640" y="44953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 rot="5465400">
            <a:off x="3809880" y="44956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676520" y="3352680"/>
            <a:ext cx="1600200" cy="1219320"/>
            <a:chOff x="1676520" y="3352680"/>
            <a:chExt cx="1600200" cy="1219320"/>
          </a:xfrm>
        </p:grpSpPr>
        <p:sp>
          <p:nvSpPr>
            <p:cNvPr id="290" name=""/>
            <p:cNvSpPr/>
            <p:nvPr/>
          </p:nvSpPr>
          <p:spPr>
            <a:xfrm>
              <a:off x="1676520" y="3352680"/>
              <a:ext cx="1600200" cy="12193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5120" y="3352680"/>
              <a:ext cx="106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, layout &amp; load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352680" y="3581280"/>
            <a:ext cx="1555560" cy="990720"/>
            <a:chOff x="3352680" y="3581280"/>
            <a:chExt cx="1555560" cy="990720"/>
          </a:xfrm>
        </p:grpSpPr>
        <p:sp>
          <p:nvSpPr>
            <p:cNvPr id="293" name=""/>
            <p:cNvSpPr/>
            <p:nvPr/>
          </p:nvSpPr>
          <p:spPr>
            <a:xfrm>
              <a:off x="3352680" y="3581280"/>
              <a:ext cx="1523880" cy="99072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81280" y="3581280"/>
              <a:ext cx="132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Analysis model w/ reaction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5029200" y="4648320"/>
            <a:ext cx="1752480" cy="121896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81480" y="4648320"/>
            <a:ext cx="13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 rot="5465400">
            <a:off x="3733560" y="3047040"/>
            <a:ext cx="53316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34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24280" y="2514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429000" y="3429000"/>
            <a:ext cx="304812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312408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12952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Running an application on a dataset without any loss of unread dat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362320"/>
            <a:ext cx="24386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81480"/>
            <a:ext cx="2514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134600">
            <a:off x="22096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 rot="5465400">
            <a:off x="3809880" y="472428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3352680"/>
            <a:ext cx="2286000" cy="1447920"/>
          </a:xfrm>
          <a:custGeom>
            <a:avLst/>
            <a:gdLst/>
            <a:ahLst/>
            <a:rect l="l" t="t" r="r" b="b"/>
            <a:pathLst>
              <a:path w="990" h="983">
                <a:moveTo>
                  <a:pt x="31" y="1"/>
                </a:moveTo>
                <a:lnTo>
                  <a:pt x="748" y="0"/>
                </a:lnTo>
                <a:cubicBezTo>
                  <a:pt x="816" y="68"/>
                  <a:pt x="838" y="34"/>
                  <a:pt x="850" y="134"/>
                </a:cubicBezTo>
                <a:cubicBezTo>
                  <a:pt x="866" y="242"/>
                  <a:pt x="834" y="422"/>
                  <a:pt x="842" y="648"/>
                </a:cubicBezTo>
                <a:cubicBezTo>
                  <a:pt x="842" y="812"/>
                  <a:pt x="787" y="882"/>
                  <a:pt x="990" y="975"/>
                </a:cubicBezTo>
                <a:cubicBezTo>
                  <a:pt x="826" y="983"/>
                  <a:pt x="483" y="968"/>
                  <a:pt x="141" y="960"/>
                </a:cubicBezTo>
                <a:cubicBezTo>
                  <a:pt x="0" y="890"/>
                  <a:pt x="91" y="721"/>
                  <a:pt x="78" y="671"/>
                </a:cubicBezTo>
                <a:cubicBezTo>
                  <a:pt x="93" y="421"/>
                  <a:pt x="86" y="367"/>
                  <a:pt x="102" y="188"/>
                </a:cubicBezTo>
                <a:cubicBezTo>
                  <a:pt x="111" y="104"/>
                  <a:pt x="152" y="66"/>
                  <a:pt x="55" y="32"/>
                </a:cubicBezTo>
                <a:cubicBezTo>
                  <a:pt x="52" y="24"/>
                  <a:pt x="47" y="9"/>
                  <a:pt x="47" y="9"/>
                </a:cubicBezTo>
              </a:path>
            </a:pathLst>
          </a:custGeom>
          <a:solidFill>
            <a:srgbClr val="ffffff"/>
          </a:solidFill>
          <a:ln w="1908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3352680"/>
            <a:ext cx="21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134600">
            <a:off x="2361960" y="289512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429000"/>
            <a:ext cx="236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esign physical model w/ connections &amp; analysis model, layout &amp; loads </a:t>
            </a:r>
            <a:r>
              <a:rPr b="0" lang="en-US" sz="1800" spc="-1" strike="noStrike" u="sng">
                <a:solidFill>
                  <a:srgbClr val="333333"/>
                </a:solidFill>
                <a:uFillTx/>
                <a:latin typeface="Times New Roman"/>
              </a:rPr>
              <a:t>w/ reactions added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5465400">
            <a:off x="3771720" y="30099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57896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25909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Merging on out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4114800" y="4876920"/>
            <a:ext cx="1905120" cy="1218960"/>
            <a:chOff x="4114800" y="4876920"/>
            <a:chExt cx="1905120" cy="1218960"/>
          </a:xfrm>
        </p:grpSpPr>
        <p:sp>
          <p:nvSpPr>
            <p:cNvPr id="316" name=""/>
            <p:cNvSpPr/>
            <p:nvPr/>
          </p:nvSpPr>
          <p:spPr>
            <a:xfrm>
              <a:off x="4114800" y="4876920"/>
              <a:ext cx="190512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9720" y="4876920"/>
              <a:ext cx="144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w/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838080" y="3808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What Functionality Does DMC Provide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Incremental update of dataset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3809880"/>
            <a:ext cx="106704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4114800"/>
            <a:ext cx="266724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hop drawing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886200"/>
            <a:ext cx="106668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5efd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4114800"/>
            <a:ext cx="26668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abrication managemen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733920" y="2133720"/>
            <a:ext cx="2245680" cy="2879280"/>
            <a:chOff x="3733920" y="2133720"/>
            <a:chExt cx="2245680" cy="2879280"/>
          </a:xfrm>
        </p:grpSpPr>
        <p:sp>
          <p:nvSpPr>
            <p:cNvPr id="325" name=""/>
            <p:cNvSpPr/>
            <p:nvPr/>
          </p:nvSpPr>
          <p:spPr>
            <a:xfrm rot="969600">
              <a:off x="4038480" y="3200040"/>
              <a:ext cx="1752840" cy="1600200"/>
            </a:xfrm>
            <a:custGeom>
              <a:avLst/>
              <a:gdLst>
                <a:gd name="textAreaLeft" fmla="*/ 0 w 1752840"/>
                <a:gd name="textAreaRight" fmla="*/ 1753200 w 175284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67" y="15076"/>
                  </a:moveTo>
                  <a:arcTo wR="-7477" hR="-7477" stAng="8706805" swAng="-8792921"/>
                  <a:lnTo>
                    <a:pt x="3" y="11071"/>
                  </a:lnTo>
                  <a:arcTo wR="10800" hR="10800" stAng="10713884" swAng="8792921"/>
                  <a:lnTo>
                    <a:pt x="21874" y="3079"/>
                  </a:lnTo>
                  <a:lnTo>
                    <a:pt x="20791" y="9151"/>
                  </a:lnTo>
                  <a:lnTo>
                    <a:pt x="14719" y="8068"/>
                  </a:lnTo>
                  <a:close/>
                </a:path>
              </a:pathLst>
            </a:custGeom>
            <a:solidFill>
              <a:srgbClr val="d5efd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33920" y="2133720"/>
              <a:ext cx="2209680" cy="1218960"/>
            </a:xfrm>
            <a:custGeom>
              <a:avLst/>
              <a:gdLst/>
              <a:ahLst/>
              <a:rect l="l" t="t" r="r" b="b"/>
              <a:pathLst>
                <a:path w="990" h="983">
                  <a:moveTo>
                    <a:pt x="31" y="1"/>
                  </a:moveTo>
                  <a:lnTo>
                    <a:pt x="748" y="0"/>
                  </a:lnTo>
                  <a:cubicBezTo>
                    <a:pt x="816" y="68"/>
                    <a:pt x="838" y="34"/>
                    <a:pt x="850" y="134"/>
                  </a:cubicBezTo>
                  <a:cubicBezTo>
                    <a:pt x="866" y="242"/>
                    <a:pt x="834" y="422"/>
                    <a:pt x="842" y="648"/>
                  </a:cubicBezTo>
                  <a:cubicBezTo>
                    <a:pt x="842" y="812"/>
                    <a:pt x="787" y="882"/>
                    <a:pt x="990" y="975"/>
                  </a:cubicBezTo>
                  <a:cubicBezTo>
                    <a:pt x="826" y="983"/>
                    <a:pt x="483" y="968"/>
                    <a:pt x="141" y="960"/>
                  </a:cubicBezTo>
                  <a:cubicBezTo>
                    <a:pt x="0" y="890"/>
                    <a:pt x="91" y="721"/>
                    <a:pt x="78" y="671"/>
                  </a:cubicBezTo>
                  <a:cubicBezTo>
                    <a:pt x="93" y="421"/>
                    <a:pt x="86" y="367"/>
                    <a:pt x="102" y="188"/>
                  </a:cubicBezTo>
                  <a:cubicBezTo>
                    <a:pt x="111" y="104"/>
                    <a:pt x="152" y="66"/>
                    <a:pt x="55" y="32"/>
                  </a:cubicBezTo>
                  <a:cubicBezTo>
                    <a:pt x="52" y="24"/>
                    <a:pt x="47" y="9"/>
                    <a:pt x="47" y="9"/>
                  </a:cubicBezTo>
                </a:path>
              </a:pathLst>
            </a:custGeom>
            <a:solidFill>
              <a:srgbClr val="ffffff"/>
            </a:soli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62520" y="2133720"/>
              <a:ext cx="190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Manuf. Model update: changed connections &amp; features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28600" y="51814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(Also merging on input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90720" y="1371600"/>
            <a:ext cx="7086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08600" cy="29876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733920" y="5713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pplic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authorizing organiz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723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llation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SW compan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50281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nstance ID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, assigned by local installa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6151200">
            <a:off x="2171520" y="453384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3262800">
            <a:off x="6705720" y="4038480"/>
            <a:ext cx="1066680" cy="457200"/>
          </a:xfrm>
          <a:prstGeom prst="leftArrow">
            <a:avLst>
              <a:gd name="adj1" fmla="val 50000"/>
              <a:gd name="adj2" fmla="val 58327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6921600">
            <a:off x="4255560" y="4903560"/>
            <a:ext cx="1295640" cy="457200"/>
          </a:xfrm>
          <a:prstGeom prst="leftArrow">
            <a:avLst>
              <a:gd name="adj1" fmla="val 50000"/>
              <a:gd name="adj2" fmla="val 70846"/>
            </a:avLst>
          </a:prstGeom>
          <a:solidFill>
            <a:srgbClr val="ffff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2096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Unique ID is three integers, assigned by different group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5:12:53Z</dcterms:created>
  <dc:creator>Eastman</dc:creator>
  <dc:description/>
  <dc:language>en-US</dc:language>
  <cp:lastModifiedBy>fwang</cp:lastModifiedBy>
  <dcterms:modified xsi:type="dcterms:W3CDTF">2002-05-06T15:45:39Z</dcterms:modified>
  <cp:revision>9</cp:revision>
  <dc:subject/>
  <dc:title>No Slide Title</dc:title>
</cp:coreProperties>
</file>